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52C9B-129C-43FA-B5C4-BFBF36859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8F115-FE09-49E6-9C3A-0D1136D01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707D8-CC3F-4FBF-88C7-147E05092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E12B6-CD3C-4032-A018-910665BD9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0E9A5-D0E3-42C6-86B4-62E7B7B0E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B5479-C140-4D71-B689-316D0BC05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C8A01-9061-49A5-B13B-3C42B1248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4005E-226D-46BE-BBE5-D6D051543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F6C57-BEB7-4539-9760-AD0AF7519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A0510-E395-4A3D-98A4-CA25F65D8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8B685-D909-4827-92A3-EF4E0AE0E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7A4A-C3E4-4344-BC96-C1EF8150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315A-BE14-4671-9FA5-E2F345762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A05D7-28F0-4D29-A04B-DD48CF21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852F3-F2A7-41B5-A281-C33E78FBF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DF69A-E1AA-4778-B7E9-1EAAA2F93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30A41-BCB0-4C71-BFC1-8D05634F9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D93B-9EFE-46D1-B085-4DF93B16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0D885-0B76-49E7-876C-0A3211B8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A698-D658-48D8-8EBE-5F89C273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C8D3-F4CE-473D-9B39-3E40A9EB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84E0-2D85-4337-9EB7-8220B91F6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01D4-1991-4B06-AB97-B4289544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6CA3D-F36E-40C1-8BC0-5C3AFED3A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99AA-28BD-43C4-BAE8-5391C9202D1F}" type="slidenum">
              <a:rPr b="0" lang="lt-L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0AE5-F274-479A-99AF-CC3772A6AB7E}" type="slidenum">
              <a:rPr b="0" lang="lt-LT"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BxSfLKcqCkE" TargetMode="External"/><Relationship Id="rId2" Type="http://schemas.openxmlformats.org/officeDocument/2006/relationships/hyperlink" Target="http://www.youtube.com/watch?v=BxSfLKcqCk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Burmese water festival</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53352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Burma is a country in Asia. The population is 42 million. The climate is not extreme. The main exports are agricultural products. In this country there are many traditional happenings. One of them is the Water Festival. This tradition is based on the Buddhist religion. This holiday is how they celebrate New Year and it is in the month of April.</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76720" y="457200"/>
            <a:ext cx="2697120" cy="58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533520"/>
            <a:ext cx="8229600" cy="533376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Today, Burmese people celebrate it in a different way. The older people go to the monastery and worship to the Lord Buddha and the monks. But the young ones go out driving in their cars. Most of the cars used in the Water Festival are jeeps. A jeep can carry only 6/7 people normally, but in the Water Festival days, it carries over 25 people standing and climbing on all parts of the car, even with some people sitting on the hood of the engine. It looks like a man-tree from a distance. While they are driving, they are singing songs and shouting. Some ladies and women are among those on the cars.</a:t>
            </a:r>
            <a:r>
              <a:rPr b="0" lang="lt-LT"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80880" y="228240"/>
            <a:ext cx="8229600" cy="609588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500" spc="-1" strike="noStrike">
                <a:solidFill>
                  <a:srgbClr val="000000"/>
                </a:solidFill>
                <a:latin typeface="Verdana"/>
              </a:rPr>
              <a:t>Burma is a Buddhist country. During the dynasty of Burmese kings, the king celebrated the New Year in his palace together with his families, for three days. They offered flowers, fruits, and foods to the Buddha in the monastery. There they worshipped Buddha and the monks. The king and his families poured water on each otheron their backs or on their shoulders from a silver bowl. The water from the silver bowl was perfumed. Outside the palace, all the people poured water on each other from their buckets or silver bowls. They believed that the Lord Buddha came from heaven on the first day and went back on the third day of the celebration. Pouring water on each other was meant to wash off the misdeeds or what they had done in the past.</a:t>
            </a:r>
            <a:r>
              <a:rPr b="0" lang="lt-LT"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ictures…</a:t>
            </a:r>
            <a:endParaRPr b="0" lang="en-US" sz="3600" spc="-1" strike="noStrike">
              <a:solidFill>
                <a:srgbClr val="006666"/>
              </a:solidFill>
              <a:latin typeface="Arial"/>
            </a:endParaRPr>
          </a:p>
        </p:txBody>
      </p:sp>
      <p:pic>
        <p:nvPicPr>
          <p:cNvPr id="97" name="" descr=""/>
          <p:cNvPicPr/>
          <p:nvPr/>
        </p:nvPicPr>
        <p:blipFill>
          <a:blip r:embed="rId1"/>
          <a:stretch/>
        </p:blipFill>
        <p:spPr>
          <a:xfrm>
            <a:off x="152280" y="2286000"/>
            <a:ext cx="4343400" cy="2946240"/>
          </a:xfrm>
          <a:prstGeom prst="rect">
            <a:avLst/>
          </a:prstGeom>
          <a:ln w="0">
            <a:noFill/>
          </a:ln>
        </p:spPr>
      </p:pic>
      <p:pic>
        <p:nvPicPr>
          <p:cNvPr id="98" name="" descr=""/>
          <p:cNvPicPr/>
          <p:nvPr/>
        </p:nvPicPr>
        <p:blipFill>
          <a:blip r:embed="rId2"/>
          <a:stretch/>
        </p:blipFill>
        <p:spPr>
          <a:xfrm>
            <a:off x="4648320" y="2003400"/>
            <a:ext cx="4343400" cy="34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
            </a:r>
            <a:r>
              <a:rPr b="0" lang="en-US" sz="3600" spc="-1" strike="noStrike">
                <a:solidFill>
                  <a:srgbClr val="006666"/>
                </a:solidFill>
                <a:latin typeface="Arial"/>
              </a:rPr>
              <a:t>and video</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u="sng">
                <a:solidFill>
                  <a:srgbClr val="006666"/>
                </a:solidFill>
                <a:uFillTx/>
                <a:latin typeface="Verdana"/>
                <a:hlinkClick r:id="rId1"/>
              </a:rPr>
              <a:t>http://www.youtube.com/</a:t>
            </a:r>
            <a:r>
              <a:rPr b="0" lang="lt-LT" sz="2900" spc="-1" strike="noStrike" u="sng">
                <a:solidFill>
                  <a:srgbClr val="006666"/>
                </a:solidFill>
                <a:uFillTx/>
                <a:latin typeface="Verdana"/>
                <a:hlinkClick r:id="rId2"/>
              </a:rPr>
              <a:t>watch?v=BxSfLKcqCkE</a:t>
            </a:r>
            <a:r>
              <a:rPr b="0" lang="lt-LT"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6:40:25Z</dcterms:created>
  <dc:creator>kompas</dc:creator>
  <dc:description/>
  <dc:language>en-US</dc:language>
  <cp:lastModifiedBy>kompas</cp:lastModifiedBy>
  <dcterms:modified xsi:type="dcterms:W3CDTF">2011-10-09T16:42:48Z</dcterms:modified>
  <cp:revision>3</cp:revision>
  <dc:subject/>
  <dc:title>Burmese festival</dc:title>
</cp:coreProperties>
</file>